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04C-8ACF-405E-BCDA-36594716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CD3-7AEC-4098-B3E3-BDFD00CE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D898-A646-4315-8281-3F9D1FBE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E1C-DE9E-4725-A307-4EF0D362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D7C3-10CB-4087-9FEC-061BEC64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FBDE-E81D-4C4A-A76A-0664988D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AEAF-1222-488E-81C2-D31F1016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7603-C16D-4D97-8551-03194C51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B11-3580-4352-BEE1-B9EC707E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7A2-3C2F-4A6A-989B-D424F389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BCAE-C26E-4EB9-8BF2-1274F406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4B9C-C981-4877-9F48-04604194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CE28-C773-46E8-B626-6E2A047B4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: some possible scen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320" y="1828440"/>
            <a:ext cx="48769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. Dev. : 1027.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f: 1.28 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0.0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3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the required sample size to detect a 30% change in maize yiel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e this is the same question as if you wanted to see a 30% difference between related questions in the same data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1043.4 kg/hect (baseline +30%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1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62k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94k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24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3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043.4 kg/hect (baseline +3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9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80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19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9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2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required sample size to detect a 20% change in maize yiel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963.1 kg/hect (baseline +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0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41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11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82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2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963.1 kg/hect (baseline +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9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79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6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357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1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required sample size to detect a 10% change in maize yiel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82.6 kg/hect (baseline +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,82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566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84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.13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1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82.6 kg/hect (baseline +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,59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$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71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$1.08m $1.44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st of a rigorous evaluation depends on many parame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suming confidence level=90% and same correlation between baseline and follow-up measurements, survey cost can range from $62k to $1.44m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key hypothesis is just on the value of the % change: the lower the projected change the higher the sample required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, better be conservative and prepared to pick even the 10% change, as if we plan for the 30% and then the 10% occurs, our sample will be too small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02:59:44Z</dcterms:created>
  <dc:creator>CAZZARRI</dc:creator>
  <dc:description/>
  <dc:language>en-US</dc:language>
  <cp:lastModifiedBy>LeBorgne, Ewen (ILRI)</cp:lastModifiedBy>
  <dcterms:modified xsi:type="dcterms:W3CDTF">2012-10-02T10:14:20Z</dcterms:modified>
  <cp:revision>12</cp:revision>
  <dc:subject/>
  <dc:title>Evaluation: some possible scenarios</dc:title>
</cp:coreProperties>
</file>